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9720" y="6311520"/>
            <a:ext cx="104648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269720" y="792468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113040"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1" marL="113040" indent="-113040" algn="ctr">
              <a:buClr>
                <a:srgbClr val="ffffff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2" marL="113040" indent="-113040" algn="ctr">
              <a:buClr>
                <a:srgbClr val="ffffff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3" marL="113040" indent="-113040" algn="ctr">
              <a:buClr>
                <a:srgbClr val="ffffff"/>
              </a:buClr>
              <a:buFont typeface="Helvetica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4" marL="113040" indent="-113040" algn="ctr">
              <a:buClr>
                <a:srgbClr val="ffffff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5" marL="113040" indent="-113040" algn="ctr"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lvl="6" marL="113040" indent="-113040" algn="ctr"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3142800"/>
            <a:ext cx="104648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German Culture Q1: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Television in German Culture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9720" y="792468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Dirk Hamel-Wood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Light"/>
              </a:rPr>
              <a:t>Period 2</a:t>
            </a:r>
            <a:endParaRPr b="0" lang="en-US" sz="32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90920" y="898560"/>
            <a:ext cx="6021360" cy="114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Bibliography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44160" y="2590560"/>
            <a:ext cx="10642680" cy="599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lnSpc>
                <a:spcPct val="90000"/>
              </a:lnSpc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Overview: http://www.germanculture.com.ua/library/facts/bl_radio_tv.htm 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lnSpc>
                <a:spcPct val="90000"/>
              </a:lnSpc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Media Landscape: http://www.ejc.net/media_landscape/article/germany/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lnSpc>
                <a:spcPct val="90000"/>
              </a:lnSpc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tudy: http://www.grady.uga.edu/coxcenter/Activities/Act_1997_to_1998/MAPORNov1996.pdf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german_media_hamel"/>
          <p:cNvPicPr/>
          <p:nvPr/>
        </p:nvPicPr>
        <p:blipFill>
          <a:blip r:embed="rId1"/>
          <a:stretch/>
        </p:blipFill>
        <p:spPr>
          <a:xfrm>
            <a:off x="2997360" y="609480"/>
            <a:ext cx="7124400" cy="838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Overview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Germany has 2 major public broadcasting corporations, ARD, founded in 1954, and ZDF, founded in 1961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e other public broadcasting stations, the </a:t>
            </a:r>
            <a:r>
              <a:rPr b="0" i="1" lang="en-US" sz="3800" spc="-1" strike="noStrike">
                <a:solidFill>
                  <a:srgbClr val="ffffff"/>
                </a:solidFill>
                <a:latin typeface="Helvetica Light"/>
              </a:rPr>
              <a:t>Laender</a:t>
            </a: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, are controlled mostly by the states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e </a:t>
            </a:r>
            <a:r>
              <a:rPr b="0" i="1" lang="en-US" sz="3800" spc="-1" strike="noStrike">
                <a:solidFill>
                  <a:srgbClr val="ffffff"/>
                </a:solidFill>
                <a:latin typeface="Helvetica Light"/>
              </a:rPr>
              <a:t>Laender </a:t>
            </a: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are financed through monthly fees, charged to television and radio owners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Overview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Public television stations are only allowed 30 minutes of advertising per day, and no commercials at all after 8 PM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Commercial television is financed entriely through advertising, similar to the US system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Media Landscape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82.2 million people live in Germany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ere are a total of 35 million households where people have at least one television set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Since the surrounding countries like Austria and Switzerland speak German, the German-speaking area includes around 100 million people, making media very efficient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Media Landscape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In Germany, the average person spends about 219 minutes on television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This time is split about evenly between commercial and public broadcasters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Light"/>
              </a:rPr>
              <a:t>US/German Comparison</a:t>
            </a:r>
            <a:endParaRPr b="0" lang="en-US" sz="72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In a study between three samples, East Germany, West Germany, and the US, television was identified as the most prevalent form of news media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However, the US was classified as more reliant on television, where Germany was more balanced between television, radio, and newspaper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Light"/>
              </a:rPr>
              <a:t>US/German Comparison</a:t>
            </a:r>
            <a:endParaRPr b="0" lang="en-US" sz="72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In a survey in all three countries, 5 questions were asked to all subjects, to determine their knowledge of current events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In the US, subjects answered, on average, 1.5 questions right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  <a:p>
            <a:pPr marL="372960" indent="-372960">
              <a:spcBef>
                <a:spcPts val="4201"/>
              </a:spcBef>
              <a:buClr>
                <a:srgbClr val="ffffff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elvetica Light"/>
              </a:rPr>
              <a:t>In Germany, subjects answered, on average, 3.5 questions right.</a:t>
            </a:r>
            <a:endParaRPr b="0" lang="en-US" sz="38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117028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Pictures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grpSp>
        <p:nvGrpSpPr>
          <p:cNvPr id="127" name="Group 13"/>
          <p:cNvGrpSpPr/>
          <p:nvPr/>
        </p:nvGrpSpPr>
        <p:grpSpPr>
          <a:xfrm>
            <a:off x="7112160" y="2286000"/>
            <a:ext cx="4721040" cy="4345200"/>
            <a:chOff x="7112160" y="2286000"/>
            <a:chExt cx="4721040" cy="4345200"/>
          </a:xfrm>
        </p:grpSpPr>
        <p:pic>
          <p:nvPicPr>
            <p:cNvPr id="128" name="Picture 6" descr="ZDFlogo"/>
            <p:cNvPicPr/>
            <p:nvPr/>
          </p:nvPicPr>
          <p:blipFill>
            <a:blip r:embed="rId1"/>
            <a:stretch/>
          </p:blipFill>
          <p:spPr>
            <a:xfrm>
              <a:off x="7160400" y="2286000"/>
              <a:ext cx="345672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0"/>
            <p:cNvSpPr/>
            <p:nvPr/>
          </p:nvSpPr>
          <p:spPr>
            <a:xfrm>
              <a:off x="7112160" y="5562720"/>
              <a:ext cx="47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elvetica Light"/>
                </a:rPr>
                <a:t>2. ZDF, the other public German broadcasting station.</a:t>
              </a:r>
              <a:endParaRPr b="0" lang="en-US" sz="18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7112160" y="6172200"/>
              <a:ext cx="4267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elvetica Light"/>
                </a:rPr>
                <a:t>http://www.lanzaroteinformation.com/files/zdf-logo_2.png</a:t>
              </a:r>
              <a:endParaRPr b="0" lang="en-US" sz="12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</p:grpSp>
      <p:grpSp>
        <p:nvGrpSpPr>
          <p:cNvPr id="131" name="Group 12"/>
          <p:cNvGrpSpPr/>
          <p:nvPr/>
        </p:nvGrpSpPr>
        <p:grpSpPr>
          <a:xfrm>
            <a:off x="2006640" y="1828800"/>
            <a:ext cx="5308560" cy="4035600"/>
            <a:chOff x="2006640" y="1828800"/>
            <a:chExt cx="5308560" cy="4035600"/>
          </a:xfrm>
        </p:grpSpPr>
        <p:pic>
          <p:nvPicPr>
            <p:cNvPr id="132" name="Picture 5" descr="ARDlogo"/>
            <p:cNvPicPr/>
            <p:nvPr/>
          </p:nvPicPr>
          <p:blipFill>
            <a:blip r:embed="rId2"/>
            <a:stretch/>
          </p:blipFill>
          <p:spPr>
            <a:xfrm>
              <a:off x="2006640" y="2465640"/>
              <a:ext cx="4651200" cy="296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9"/>
            <p:cNvSpPr/>
            <p:nvPr/>
          </p:nvSpPr>
          <p:spPr>
            <a:xfrm>
              <a:off x="2006640" y="1828800"/>
              <a:ext cx="464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elvetica Light"/>
                </a:rPr>
                <a:t>1. ARD, one of Germany’s public broadcasting stations.</a:t>
              </a:r>
              <a:endParaRPr b="0" lang="en-US" sz="18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2006640" y="5405400"/>
              <a:ext cx="53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elvetica Light"/>
                </a:rPr>
                <a:t>http://1.bp.blogspot.com/-YwAwBRNtm3E/T8JYXVIL1xI/AAAAAAAAAJ8/9jeNWOEONpM/s1600/ard-live-tv-stream-online.jpg</a:t>
              </a:r>
              <a:endParaRPr b="0" lang="en-US" sz="12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</p:grpSp>
      <p:grpSp>
        <p:nvGrpSpPr>
          <p:cNvPr id="135" name="Group 14"/>
          <p:cNvGrpSpPr/>
          <p:nvPr/>
        </p:nvGrpSpPr>
        <p:grpSpPr>
          <a:xfrm>
            <a:off x="2886120" y="5884920"/>
            <a:ext cx="8112240" cy="3231000"/>
            <a:chOff x="2886120" y="5884920"/>
            <a:chExt cx="8112240" cy="3231000"/>
          </a:xfrm>
        </p:grpSpPr>
        <p:pic>
          <p:nvPicPr>
            <p:cNvPr id="136" name="Picture 7" descr="SAT-1 logo"/>
            <p:cNvPicPr/>
            <p:nvPr/>
          </p:nvPicPr>
          <p:blipFill>
            <a:blip r:embed="rId3"/>
            <a:stretch/>
          </p:blipFill>
          <p:spPr>
            <a:xfrm>
              <a:off x="2886120" y="5884920"/>
              <a:ext cx="672552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8"/>
            <p:cNvSpPr/>
            <p:nvPr/>
          </p:nvSpPr>
          <p:spPr>
            <a:xfrm>
              <a:off x="6197400" y="8153640"/>
              <a:ext cx="48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Helvetica Light"/>
                </a:rPr>
                <a:t>3. SAT.1, Germany’s first commercial broadcasting station.</a:t>
              </a:r>
              <a:endParaRPr b="0" lang="en-US" sz="18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5835960" y="8839440"/>
              <a:ext cx="46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elvetica Light"/>
                </a:rPr>
                <a:t>http://upload.wikimedia.org/wikipedia/en/d/db/Sat.1_logo.png</a:t>
              </a:r>
              <a:endParaRPr b="0" lang="en-US" sz="1200" spc="-1" strike="noStrike">
                <a:solidFill>
                  <a:srgbClr val="ffffff"/>
                </a:solidFill>
                <a:latin typeface="Helvetica Light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Helvetica Light"/>
              </a:rPr>
              <a:t>Quiz Questions</a:t>
            </a:r>
            <a:endParaRPr b="0" lang="en-US" sz="8000" spc="-1" strike="noStrike">
              <a:solidFill>
                <a:srgbClr val="ffffff"/>
              </a:solidFill>
              <a:latin typeface="Helvetica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69720" y="2768400"/>
            <a:ext cx="10464840" cy="633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0880" indent="-380880">
              <a:spcBef>
                <a:spcPts val="4201"/>
              </a:spcBef>
              <a:buClr>
                <a:srgbClr val="ffffff"/>
              </a:buClr>
              <a:buSzPct val="84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Light"/>
              </a:rPr>
              <a:t>1. What is the population of Germany?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Light"/>
              </a:rPr>
              <a:t>A. 100.3 million people.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Light"/>
              </a:rPr>
              <a:t>B. 82.2 million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Light"/>
              </a:rPr>
              <a:t>C. 55.6 million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buClr>
                <a:srgbClr val="ffffff"/>
              </a:buClr>
              <a:buSzPct val="84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Light"/>
              </a:rPr>
              <a:t>2. How many households have television sets?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Light"/>
              </a:rPr>
              <a:t>A. 35 million households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Light"/>
              </a:rPr>
              <a:t>B. 40 million households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  <a:p>
            <a:pPr marL="380880" indent="-38088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Light"/>
              </a:rPr>
              <a:t>C. 45 million households</a:t>
            </a:r>
            <a:endParaRPr b="0" lang="en-US" sz="2000" spc="-1" strike="noStrike">
              <a:solidFill>
                <a:srgbClr val="ffffff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0:02:52Z</dcterms:created>
  <dc:creator/>
  <dc:description/>
  <dc:language>en-US</dc:language>
  <cp:lastModifiedBy>SCSadmin</cp:lastModifiedBy>
  <dcterms:modified xsi:type="dcterms:W3CDTF">2012-10-12T12:30:52Z</dcterms:modified>
  <cp:revision>11</cp:revision>
  <dc:subject/>
  <dc:title>German Culture Q1: Print Media</dc:title>
</cp:coreProperties>
</file>